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121158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4240" y="5771520"/>
            <a:ext cx="121158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44240" y="151920"/>
            <a:ext cx="1211580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442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6524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44240" y="5771520"/>
            <a:ext cx="121158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121158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44240" y="5771520"/>
            <a:ext cx="121158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442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66524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40680" y="23749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8637120" y="23749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44240" y="57715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4540680" y="57715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8637120" y="57715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42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524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44240" y="2374920"/>
            <a:ext cx="12115800" cy="65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121158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44240" y="151920"/>
            <a:ext cx="1211580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442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6524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44240" y="5771520"/>
            <a:ext cx="121158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121158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44240" y="5771520"/>
            <a:ext cx="121158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442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6524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40680" y="23749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637120" y="23749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4240" y="57715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540680" y="57715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637120" y="57715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40680" y="23749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637120" y="23749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44240" y="57715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4540680" y="57715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8637120" y="57715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44240" y="2374920"/>
            <a:ext cx="12115800" cy="65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121158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44240" y="151920"/>
            <a:ext cx="1211580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442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6524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44240" y="5771520"/>
            <a:ext cx="121158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121158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44240" y="5771520"/>
            <a:ext cx="121158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442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6524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40680" y="23749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637120" y="23749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44240" y="57715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4540680" y="57715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637120" y="57715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44240" y="2374920"/>
            <a:ext cx="12115800" cy="65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121158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44240" y="151920"/>
            <a:ext cx="1211580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442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44240" y="2374920"/>
            <a:ext cx="12115800" cy="65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524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44240" y="5771520"/>
            <a:ext cx="121158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121158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44240" y="5771520"/>
            <a:ext cx="121158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442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524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40680" y="23749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637120" y="23749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44240" y="57715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540680" y="57715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637120" y="57715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121158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44240" y="151920"/>
            <a:ext cx="1211580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442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44240" y="2374920"/>
            <a:ext cx="12115800" cy="65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524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4240" y="5771520"/>
            <a:ext cx="121158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121158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4240" y="5771520"/>
            <a:ext cx="121158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42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524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40680" y="23749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637120" y="23749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44240" y="57715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540680" y="57715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637120" y="57715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44240" y="2374920"/>
            <a:ext cx="12115800" cy="65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121158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121158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44240" y="151920"/>
            <a:ext cx="1211580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442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524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44240" y="5771520"/>
            <a:ext cx="121158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121158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44240" y="5771520"/>
            <a:ext cx="121158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42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524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40680" y="23749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637120" y="23749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44240" y="57715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540680" y="57715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637120" y="57715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44240" y="2374920"/>
            <a:ext cx="12115800" cy="65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121158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44240" y="151920"/>
            <a:ext cx="1211580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442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524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44240" y="5771520"/>
            <a:ext cx="121158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121158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4240" y="5771520"/>
            <a:ext cx="121158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442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524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40680" y="23749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637120" y="23749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44240" y="57715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540680" y="57715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637120" y="57715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44240" y="2374920"/>
            <a:ext cx="12115800" cy="65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121158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44240" y="151920"/>
            <a:ext cx="1211580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442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524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44240" y="5771520"/>
            <a:ext cx="121158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121158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44240" y="5771520"/>
            <a:ext cx="121158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442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524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44240" y="151920"/>
            <a:ext cx="1211580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40680" y="23749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637120" y="23749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44240" y="57715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540680" y="57715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637120" y="57715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44240" y="2374920"/>
            <a:ext cx="12115800" cy="65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121158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44240" y="151920"/>
            <a:ext cx="1211580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442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524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44240" y="5771520"/>
            <a:ext cx="121158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442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121158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44240" y="5771520"/>
            <a:ext cx="121158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442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524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40680" y="23749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637120" y="23749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44240" y="57715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540680" y="57715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637120" y="57715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44240" y="2374920"/>
            <a:ext cx="12115800" cy="65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121158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44240" y="151920"/>
            <a:ext cx="1211580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442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524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6524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4240" y="5771520"/>
            <a:ext cx="121158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121158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4240" y="5771520"/>
            <a:ext cx="121158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442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6524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40680" y="23749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637120" y="23749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44240" y="57715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540680" y="57715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637120" y="57715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44240" y="2374920"/>
            <a:ext cx="12115800" cy="65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121158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4240" y="5771520"/>
            <a:ext cx="121158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44240" y="151920"/>
            <a:ext cx="1211580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442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6524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44240" y="5771520"/>
            <a:ext cx="121158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121158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44240" y="5771520"/>
            <a:ext cx="121158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52440" y="23749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442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652440" y="5771520"/>
            <a:ext cx="59122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40680" y="23749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637120" y="23749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44240" y="57715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4540680" y="57715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8637120" y="5771520"/>
            <a:ext cx="390096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44240" y="2374920"/>
            <a:ext cx="12115800" cy="65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121158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4240" y="3174840"/>
            <a:ext cx="12115800" cy="204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4240" y="5346720"/>
            <a:ext cx="12115800" cy="123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1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2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3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4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5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6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44240" y="2374920"/>
            <a:ext cx="121158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marL="708480" indent="-3200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1" marL="1119960" indent="-3200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2" marL="1519920" indent="-3200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3" marL="1931400" indent="-3200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4" marL="2342880" indent="-3200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5" marL="2342880" indent="-3200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6" marL="2342880" indent="-3200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44600" y="2374920"/>
            <a:ext cx="65656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4000"/>
          </a:bodyPr>
          <a:p>
            <a:pPr marL="66132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1" marL="104508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2" marL="141876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3" marL="180288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4" marL="218664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5" marL="218664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6" marL="218664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772400" y="2374920"/>
            <a:ext cx="4788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0000"/>
          </a:bodyPr>
          <a:p>
            <a:pPr marL="550800" indent="-24876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1" marL="870840" indent="-24876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2" marL="1182240" indent="-24876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3" marL="1502280" indent="-24876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4" marL="1822320" indent="-24876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5" marL="1822320" indent="-24876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6" marL="1822320" indent="-24876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44240" y="2374920"/>
            <a:ext cx="121158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775800" indent="-370080">
              <a:spcBef>
                <a:spcPts val="2999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1" marL="1205640" indent="-370080">
              <a:spcBef>
                <a:spcPts val="2999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2" marL="1623600" indent="-370080">
              <a:spcBef>
                <a:spcPts val="2999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3" marL="2053080" indent="-370080">
              <a:spcBef>
                <a:spcPts val="2999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4" marL="2482920" indent="-370080">
              <a:spcBef>
                <a:spcPts val="2999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5" marL="2482920" indent="-370080">
              <a:spcBef>
                <a:spcPts val="2999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6" marL="2482920" indent="-370080">
              <a:spcBef>
                <a:spcPts val="2999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44600" y="1409760"/>
            <a:ext cx="65656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44600" y="4788000"/>
            <a:ext cx="65656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1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2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3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4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5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6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4240" y="6527520"/>
            <a:ext cx="12115800" cy="222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4240" y="3174840"/>
            <a:ext cx="12115800" cy="339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444240" y="1270080"/>
            <a:ext cx="121158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775800" indent="-370080">
              <a:spcBef>
                <a:spcPts val="4000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1" marL="1205640" indent="-370080">
              <a:spcBef>
                <a:spcPts val="4000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2" marL="1623600" indent="-370080">
              <a:spcBef>
                <a:spcPts val="4000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3" marL="2053080" indent="-370080">
              <a:spcBef>
                <a:spcPts val="4000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4" marL="2482920" indent="-370080">
              <a:spcBef>
                <a:spcPts val="4000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5" marL="2482920" indent="-370080">
              <a:spcBef>
                <a:spcPts val="4000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6" marL="2482920" indent="-370080">
              <a:spcBef>
                <a:spcPts val="4000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44600" y="2374920"/>
            <a:ext cx="65656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4000"/>
          </a:bodyPr>
          <a:p>
            <a:pPr marL="66132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1" marL="104508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2" marL="141876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3" marL="180288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4" marL="218664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5" marL="218664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6" marL="218664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44240" y="3429000"/>
            <a:ext cx="12115800" cy="294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Comic Sans MS"/>
                <a:ea typeface="Comic Sans MS"/>
              </a:rPr>
              <a:t>Circle Graphs</a:t>
            </a:r>
            <a:br>
              <a:rPr sz="7800"/>
            </a:br>
            <a:r>
              <a:rPr b="0" lang="en-US" sz="7800" spc="-1" strike="noStrike">
                <a:solidFill>
                  <a:srgbClr val="3f3f3f"/>
                </a:solidFill>
                <a:latin typeface="Comic Sans MS"/>
                <a:ea typeface="Comic Sans MS"/>
              </a:rPr>
              <a:t>(a.k.a. Pie Charts)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02680" y="6959520"/>
            <a:ext cx="12115800" cy="123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Comic Sans MS"/>
                <a:ea typeface="Comic Sans MS"/>
              </a:rPr>
              <a:t>Goal: I am learning to construct &amp; interpret circle graphs.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Comic Sans MS"/>
                <a:ea typeface="Comic Sans MS"/>
              </a:rPr>
              <a:t>Definition: Circle Graph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44240" y="2374560"/>
            <a:ext cx="12115800" cy="279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76240" indent="-3934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Comic Sans MS Bold"/>
                <a:ea typeface="Comic Sans MS Bold"/>
              </a:rPr>
              <a:t>Def: Circle Graph:</a:t>
            </a:r>
            <a:r>
              <a:rPr b="0" lang="en-US" sz="4200" spc="-1" strike="noStrike">
                <a:solidFill>
                  <a:srgbClr val="5f7bae"/>
                </a:solidFill>
                <a:latin typeface="Comic Sans MS"/>
                <a:ea typeface="Comic Sans MS"/>
              </a:rPr>
              <a:t> a type of graph used to compare parts of a whole.  The entire graph represents the whole.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3"/>
          <a:stretch/>
        </p:blipFill>
        <p:spPr>
          <a:xfrm>
            <a:off x="1511280" y="5067360"/>
            <a:ext cx="3556080" cy="35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44240" y="37800"/>
            <a:ext cx="121158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Ex1:  The table shows when tornadoes occurred in the US from 1999 to 2001.  Make a pie chart using this info.</a:t>
            </a:r>
            <a:endParaRPr b="0" lang="en-US" sz="3600" spc="-1" strike="noStrike">
              <a:solidFill>
                <a:srgbClr val="3f3f3f"/>
              </a:solidFill>
              <a:latin typeface="Herculanum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8229600" y="2184480"/>
          <a:ext cx="3962520" cy="3336840"/>
        </p:xfrm>
        <a:graphic>
          <a:graphicData uri="http://schemas.openxmlformats.org/drawingml/2006/table">
            <a:tbl>
              <a:tblPr/>
              <a:tblGrid>
                <a:gridCol w="2727360"/>
                <a:gridCol w="1235160"/>
              </a:tblGrid>
              <a:tr h="875520">
                <a:tc gridSpan="2">
                  <a:txBody>
                    <a:bodyPr lIns="63360" rIns="63360" tIns="63360" bIns="63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rnadoes in US, 1999-2001</a:t>
                      </a:r>
                      <a:endParaRPr b="0" lang="en-US" sz="2400" spc="-1" strike="noStrike">
                        <a:solidFill>
                          <a:srgbClr val="5f7bae"/>
                        </a:solidFill>
                        <a:latin typeface="Palatino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5f7bae"/>
                        </a:solidFill>
                        <a:latin typeface="Palatin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8480">
                <a:tc>
                  <a:txBody>
                    <a:bodyPr lIns="63360" rIns="63360" tIns="63360" bIns="63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uary - March</a:t>
                      </a:r>
                      <a:endParaRPr b="0" lang="en-US" sz="2400" spc="-1" strike="noStrike">
                        <a:solidFill>
                          <a:srgbClr val="5f7bae"/>
                        </a:solidFill>
                        <a:latin typeface="Palatino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%</a:t>
                      </a:r>
                      <a:endParaRPr b="0" lang="en-US" sz="2400" spc="-1" strike="noStrike">
                        <a:solidFill>
                          <a:srgbClr val="5f7bae"/>
                        </a:solidFill>
                        <a:latin typeface="Palatino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8480">
                <a:tc>
                  <a:txBody>
                    <a:bodyPr lIns="63360" rIns="63360" tIns="63360" bIns="63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 - June</a:t>
                      </a:r>
                      <a:endParaRPr b="0" lang="en-US" sz="2400" spc="-1" strike="noStrike">
                        <a:solidFill>
                          <a:srgbClr val="5f7bae"/>
                        </a:solidFill>
                        <a:latin typeface="Palatino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%</a:t>
                      </a:r>
                      <a:endParaRPr b="0" lang="en-US" sz="2400" spc="-1" strike="noStrike">
                        <a:solidFill>
                          <a:srgbClr val="5f7bae"/>
                        </a:solidFill>
                        <a:latin typeface="Palatino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8120">
                <a:tc>
                  <a:txBody>
                    <a:bodyPr lIns="63360" rIns="63360" tIns="63360" bIns="63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y - September</a:t>
                      </a:r>
                      <a:endParaRPr b="0" lang="en-US" sz="2400" spc="-1" strike="noStrike">
                        <a:solidFill>
                          <a:srgbClr val="5f7bae"/>
                        </a:solidFill>
                        <a:latin typeface="Palatino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5f7bae"/>
                        </a:solidFill>
                        <a:latin typeface="Palatino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6240">
                <a:tc>
                  <a:txBody>
                    <a:bodyPr lIns="63360" rIns="63360" tIns="63360" bIns="63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ctober - December</a:t>
                      </a:r>
                      <a:endParaRPr b="0" lang="en-US" sz="2400" spc="-1" strike="noStrike">
                        <a:solidFill>
                          <a:srgbClr val="5f7bae"/>
                        </a:solidFill>
                        <a:latin typeface="Palatino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%</a:t>
                      </a:r>
                      <a:endParaRPr b="0" lang="en-US" sz="2400" spc="-1" strike="noStrike">
                        <a:solidFill>
                          <a:srgbClr val="5f7bae"/>
                        </a:solidFill>
                        <a:latin typeface="Palatino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  <a:ea typeface="Comic Sans MS"/>
              </a:rPr>
              <a:t>Checkpoin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: Draw a circle graph to represent the data below</a:t>
            </a:r>
            <a:endParaRPr b="0" lang="en-US" sz="3600" spc="-1" strike="noStrike">
              <a:solidFill>
                <a:srgbClr val="3f3f3f"/>
              </a:solidFill>
              <a:latin typeface="Herculanum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393840" y="2184480"/>
          <a:ext cx="3962160" cy="2768400"/>
        </p:xfrm>
        <a:graphic>
          <a:graphicData uri="http://schemas.openxmlformats.org/drawingml/2006/table">
            <a:tbl>
              <a:tblPr/>
              <a:tblGrid>
                <a:gridCol w="2727000"/>
                <a:gridCol w="1235160"/>
              </a:tblGrid>
              <a:tr h="1010880">
                <a:tc gridSpan="2"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w Often Teens Borrow a CD from Their Parents</a:t>
                      </a:r>
                      <a:endParaRPr b="0" lang="en-US" sz="2400" spc="-1" strike="noStrike">
                        <a:solidFill>
                          <a:srgbClr val="5f7bae"/>
                        </a:solidFill>
                        <a:latin typeface="Palatino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5f7bae"/>
                        </a:solidFill>
                        <a:latin typeface="Palatin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72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tly</a:t>
                      </a:r>
                      <a:endParaRPr b="0" lang="en-US" sz="2400" spc="-1" strike="noStrike">
                        <a:solidFill>
                          <a:srgbClr val="5f7bae"/>
                        </a:solidFill>
                        <a:latin typeface="Palatino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%</a:t>
                      </a:r>
                      <a:endParaRPr b="0" lang="en-US" sz="2400" spc="-1" strike="noStrike">
                        <a:solidFill>
                          <a:srgbClr val="5f7bae"/>
                        </a:solidFill>
                        <a:latin typeface="Palatino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572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ccasionally</a:t>
                      </a:r>
                      <a:endParaRPr b="0" lang="en-US" sz="2400" spc="-1" strike="noStrike">
                        <a:solidFill>
                          <a:srgbClr val="5f7bae"/>
                        </a:solidFill>
                        <a:latin typeface="Palatino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%</a:t>
                      </a:r>
                      <a:endParaRPr b="0" lang="en-US" sz="2400" spc="-1" strike="noStrike">
                        <a:solidFill>
                          <a:srgbClr val="5f7bae"/>
                        </a:solidFill>
                        <a:latin typeface="Palatino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608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/Rarely</a:t>
                      </a:r>
                      <a:endParaRPr b="0" lang="en-US" sz="2400" spc="-1" strike="noStrike">
                        <a:solidFill>
                          <a:srgbClr val="5f7bae"/>
                        </a:solidFill>
                        <a:latin typeface="Palatino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400" spc="-1" strike="noStrike">
                        <a:solidFill>
                          <a:srgbClr val="5f7bae"/>
                        </a:solidFill>
                        <a:latin typeface="Palatino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Ex2: Make a circle graph using the information in the histogram below.</a:t>
            </a:r>
            <a:endParaRPr b="0" lang="en-US" sz="3600" spc="-1" strike="noStrike">
              <a:solidFill>
                <a:srgbClr val="3f3f3f"/>
              </a:solidFill>
              <a:latin typeface="Herculanum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6242040" y="1978200"/>
            <a:ext cx="56894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Ex3: Make a circle graph using the data in the table below.  Round answers to nearest tenth.</a:t>
            </a:r>
            <a:endParaRPr b="0" lang="en-US" sz="3600" spc="-1" strike="noStrike">
              <a:solidFill>
                <a:srgbClr val="3f3f3f"/>
              </a:solidFill>
              <a:latin typeface="Herculanum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355680" y="2057400"/>
          <a:ext cx="4100400" cy="3784320"/>
        </p:xfrm>
        <a:graphic>
          <a:graphicData uri="http://schemas.openxmlformats.org/drawingml/2006/table">
            <a:tbl>
              <a:tblPr/>
              <a:tblGrid>
                <a:gridCol w="2820960"/>
                <a:gridCol w="1279440"/>
              </a:tblGrid>
              <a:tr h="948600">
                <a:tc gridSpan="2"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ea (square miles) of the 5 Counties of Hawaii</a:t>
                      </a:r>
                      <a:endParaRPr b="0" lang="en-US" sz="2400" spc="-1" strike="noStrike">
                        <a:solidFill>
                          <a:srgbClr val="5f7bae"/>
                        </a:solidFill>
                        <a:latin typeface="Palatino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5f7bae"/>
                        </a:solidFill>
                        <a:latin typeface="Palatin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700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waii</a:t>
                      </a:r>
                      <a:endParaRPr b="0" lang="en-US" sz="2400" spc="-1" strike="noStrike">
                        <a:solidFill>
                          <a:srgbClr val="5f7bae"/>
                        </a:solidFill>
                        <a:latin typeface="Palatino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028</a:t>
                      </a:r>
                      <a:endParaRPr b="0" lang="en-US" sz="2400" spc="-1" strike="noStrike">
                        <a:solidFill>
                          <a:srgbClr val="5f7bae"/>
                        </a:solidFill>
                        <a:latin typeface="Palatino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700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nolulu</a:t>
                      </a:r>
                      <a:endParaRPr b="0" lang="en-US" sz="2400" spc="-1" strike="noStrike">
                        <a:solidFill>
                          <a:srgbClr val="5f7bae"/>
                        </a:solidFill>
                        <a:latin typeface="Palatino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</a:t>
                      </a:r>
                      <a:endParaRPr b="0" lang="en-US" sz="2400" spc="-1" strike="noStrike">
                        <a:solidFill>
                          <a:srgbClr val="5f7bae"/>
                        </a:solidFill>
                        <a:latin typeface="Palatino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736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alawao</a:t>
                      </a:r>
                      <a:endParaRPr b="0" lang="en-US" sz="2400" spc="-1" strike="noStrike">
                        <a:solidFill>
                          <a:srgbClr val="5f7bae"/>
                        </a:solidFill>
                        <a:latin typeface="Palatino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5f7bae"/>
                        </a:solidFill>
                        <a:latin typeface="Palatino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736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auai</a:t>
                      </a:r>
                      <a:endParaRPr b="0" lang="en-US" sz="2400" spc="-1" strike="noStrike">
                        <a:solidFill>
                          <a:srgbClr val="5f7bae"/>
                        </a:solidFill>
                        <a:latin typeface="Palatino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3</a:t>
                      </a:r>
                      <a:endParaRPr b="0" lang="en-US" sz="2400" spc="-1" strike="noStrike">
                        <a:solidFill>
                          <a:srgbClr val="5f7bae"/>
                        </a:solidFill>
                        <a:latin typeface="Palatino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700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ui</a:t>
                      </a:r>
                      <a:endParaRPr b="0" lang="en-US" sz="2400" spc="-1" strike="noStrike">
                        <a:solidFill>
                          <a:srgbClr val="5f7bae"/>
                        </a:solidFill>
                        <a:latin typeface="Palatino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59</a:t>
                      </a:r>
                      <a:endParaRPr b="0" lang="en-US" sz="2400" spc="-1" strike="noStrike">
                        <a:solidFill>
                          <a:srgbClr val="5f7bae"/>
                        </a:solidFill>
                        <a:latin typeface="Palatino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64880" y="0"/>
            <a:ext cx="12674520" cy="20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Ex4: Use the circle below to describe the makeup of the average game scores of 25 top scoring basketball players.</a:t>
            </a:r>
            <a:endParaRPr b="0" lang="en-US" sz="3600" spc="-1" strike="noStrike">
              <a:solidFill>
                <a:srgbClr val="3f3f3f"/>
              </a:solidFill>
              <a:latin typeface="Herculanum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2197080" y="2793960"/>
            <a:ext cx="4140360" cy="41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Comic Sans MS"/>
                <a:ea typeface="Comic Sans MS"/>
              </a:rPr>
              <a:t>Homework &amp; Closure Q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44240" y="2374920"/>
            <a:ext cx="12115800" cy="345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76240" indent="-3934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Comic Sans MS"/>
                <a:ea typeface="Comic Sans MS"/>
              </a:rPr>
              <a:t>HW: p. 428-429, #6-15all, 17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marL="876240" indent="-393480">
              <a:lnSpc>
                <a:spcPct val="10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Comic Sans MS"/>
                <a:ea typeface="Comic Sans MS"/>
              </a:rPr>
              <a:t>Closure Q: Make the circle graph for the data from our Do Now Data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